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7F2-D9F6-4813-AFCC-4083940D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C22-2F19-4816-BEF6-4EBF0662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EE9-E96D-4D80-8E0D-46A23DDE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4AA-656F-4FD8-9B3F-053A5715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6EB-0FB1-4AE6-8F3D-EF15A947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E29-0DE3-4409-AE3B-6CEAB6FD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C2A-A868-4D82-831E-74214F91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7A2-57B4-4D7E-81B3-67890E88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290-49FC-4BE0-83A3-5912A45E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350-B22B-4AB0-B23B-D4F88511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496-3609-41FD-B997-03A5E195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01B-56DB-49B4-87D6-11A9A988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651B-BFF7-4581-AF18-2EDC1B297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8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6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14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s una familia pequeñ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an original sentence using each of the following ver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  (to 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er (to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brir (to co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bir (to go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-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Tú y tus amigos.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ponde en oraciones comp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comes cuando vas a un restaur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bebes cuando estas en un restaur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aprenden tú y tus amigos en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leen ustedes en la clase de i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escriben uste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omprenden los alumnos cuando la profesora de español hab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Reciben ustedes notas buenas en sus curs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7632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I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Oracion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pia y compl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 ________ en Quito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viv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 ____________ ingles en la escuela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pre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 clase de ingles nosotros _________ y ___________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leer, escrib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ues de las clases nosotros __________ a un café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 el menu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le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esero ________ la ordern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escrib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 un sandwich de jamon y queso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co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, ¿Que __________ (tú)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co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 té frio y mis amigos _______ una cola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beber, be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Escritura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Write a description of your house or your apartment.  Tell what you do when you are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EN EL C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6:44:27Z</dcterms:created>
  <dc:creator>Helen Zumaeta</dc:creator>
  <dc:description/>
  <dc:language>en-US</dc:language>
  <cp:lastModifiedBy>Helen Zumaeta</cp:lastModifiedBy>
  <cp:lastPrinted>2014-10-06T12:37:59Z</cp:lastPrinted>
  <dcterms:modified xsi:type="dcterms:W3CDTF">2014-10-06T12:40:16Z</dcterms:modified>
  <cp:revision>17</cp:revision>
  <dc:subject/>
  <dc:title>Slide 1</dc:title>
</cp:coreProperties>
</file>